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7DFB-0C00-46F3-8655-A1962BFD5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6FC4-D692-464B-956A-C1992D3DD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DEFC-3566-4CAB-B7C4-66D4185D4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A1B8-10E9-417D-BED0-35130FEEA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D24B-BDC0-4BC0-8CE2-105D5FB0E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2E02-B2E6-446A-96AC-6B7AAD88E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6992-3695-40FC-AB86-14EDD8197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74DD-87B0-4841-8095-01A82F19C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B934-25FB-4FDE-A946-7A3A92938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1E2D-D24B-405A-9032-8BE72B2A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B19C-B25C-40BA-BCCE-BBCB37A1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6745-90C6-49A3-8E9F-C157B8A7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A054B-212D-4C81-A80B-216C14BA30A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52480" y="3524400"/>
            <a:ext cx="1838520" cy="1752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343400" y="3352680"/>
            <a:ext cx="2986200" cy="200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23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447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000000"/>
                </a:solidFill>
                <a:latin typeface="Times New Roman"/>
              </a:rPr>
              <a:t>الاخـتـصـارات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اختصارات بعض الكلم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590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اختصارات الاماك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4419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اختصارات الاعدا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77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770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828800" y="2533680"/>
            <a:ext cx="1838160" cy="1752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4419720" y="23623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24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اختصارات القياس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2133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اختصارات ايام الأسبوع واشهر السن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3657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اختصارات خاص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5105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اختصارات خاص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77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770" fill="hold"/>
                                        <p:tgtEl>
                                          <p:spTgt spid="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77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770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45720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. Common Symbo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267080" y="1980720"/>
            <a:ext cx="41911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Times New Roman"/>
              </a:rPr>
              <a:t>رموز عام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pre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68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Makkah St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7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U.K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8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University R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9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5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10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e.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000000"/>
                </a:solidFill>
                <a:latin typeface="Times New Roman"/>
              </a:rPr>
              <a:t>الـتـمـاريـن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5T19:12:10Z</dcterms:created>
  <dc:creator>Bafayad</dc:creator>
  <dc:description/>
  <dc:language>en-US</dc:language>
  <cp:lastModifiedBy>معمل الانجليزي</cp:lastModifiedBy>
  <dcterms:modified xsi:type="dcterms:W3CDTF">2005-03-27T06:42:15Z</dcterms:modified>
  <cp:revision>8</cp:revision>
  <dc:subject/>
  <dc:title>عرض تقديمي من PowerPoint</dc:title>
</cp:coreProperties>
</file>